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207-75E1-4C8D-9AF4-97566E87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C53-7323-4847-A942-291B3325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810-DB84-40FD-827F-3B35736A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B4B-3C04-4DC7-82CC-3C88796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55D-9A85-43DC-AB68-93C3399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9BE-64CD-4ABD-BB16-C1EE7DC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DF1-1579-42CB-8413-63D6A15C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C80-7F48-4E6A-BCFE-6C45F27C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3AE-69C0-4647-91B6-9BA0014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397-8632-43AD-A990-62427E6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EC8-CD1A-4D9B-A7DD-7D7D632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EF0-6A8A-4868-A139-FC70C30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9D5-9DBA-4A16-B070-61618A9F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05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nsforming Liter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76212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l equation – an equation involving two or more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90920"/>
            <a:ext cx="723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   Transforming Geometric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90392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92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   Transform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267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4784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16:16:10Z</dcterms:created>
  <dc:creator>Susannah Graham</dc:creator>
  <dc:description/>
  <dc:language>en-US</dc:language>
  <cp:lastModifiedBy>Susannah Graham</cp:lastModifiedBy>
  <dcterms:modified xsi:type="dcterms:W3CDTF">2009-07-30T15:24:37Z</dcterms:modified>
  <cp:revision>2</cp:revision>
  <dc:subject/>
  <dc:title>Lesson 2.6 Formulas</dc:title>
</cp:coreProperties>
</file>